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C3D-AC53-496A-9BCC-47F04C9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5CB-9D4E-4D46-AD0F-D8868A3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890-61A7-47D2-9F18-69E33F99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7BE-2D15-4934-9694-8EDCC782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287-9F44-403A-A033-7ADA9C6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F31-135D-4746-AEA2-6A9B05C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F21-7AB1-43E0-A611-23BFCF8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F41-FAFD-4A56-84DD-D47FCA5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803-4FC7-41E8-80FB-6911FD44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D94-974A-4D5D-B2FF-75B18B13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B9F-88B3-4694-8430-0C5453D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EB2-ECCE-41CD-A2C3-086AC45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912-5185-423A-8E7C-2968BC86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 to tak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b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chec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322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star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glar.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to s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819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: some one who tells a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onyms wri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llable str .y .t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word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ection 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8680" y="19810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full of strong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ex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to tak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l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0-31T17:10:40Z</dcterms:modified>
  <cp:revision>4</cp:revision>
  <dc:subject/>
  <dc:title>PowerPoint Presentation</dc:title>
</cp:coreProperties>
</file>